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FF2D0-DB61-4980-AB57-2744080155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182600" y="454572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BDC46-0E6A-40E2-A3A4-613258DA652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1150560" y="-360"/>
            <a:ext cx="779292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118260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16528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1182600" y="454572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1182600" y="454572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18260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516528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810600" y="20174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438240" y="20174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1182600" y="45457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810600" y="45457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438240" y="45457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8260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6528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30329-53F3-4946-AE41-18BA61C4D7D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1150560" y="-360"/>
            <a:ext cx="779292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118260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16528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182600" y="454572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1182600" y="454572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18260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516528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10600" y="20174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8240" y="20174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182600" y="45457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810600" y="45457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8240" y="45457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32B8C-D33D-46B4-A2C1-291DF92C36E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810600" y="20174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438240" y="20174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1182600" y="45457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810600" y="45457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438240" y="45457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150560" y="-360"/>
            <a:ext cx="779292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18260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16528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182600" y="454572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182600" y="454572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18260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16528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810600" y="20174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438240" y="20174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182600" y="45457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810600" y="45457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438240" y="45457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1150560" y="-360"/>
            <a:ext cx="779292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118260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516528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1182600" y="454572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1182600" y="454572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18260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516528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810600" y="20174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438240" y="20174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1182600" y="45457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810600" y="45457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438240" y="45457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1150560" y="-360"/>
            <a:ext cx="779292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18260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516528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1182600" y="454572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1182600" y="454572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118260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516528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810600" y="20174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438240" y="20174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1182600" y="45457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810600" y="45457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438240" y="45457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1150560" y="-360"/>
            <a:ext cx="779292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118260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16528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1182600" y="454572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1182600" y="454572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118260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516528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810600" y="20174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438240" y="20174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1182600" y="45457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810600" y="45457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438240" y="45457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1150560" y="-360"/>
            <a:ext cx="779292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18260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16528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1182600" y="454572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1182600" y="454572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118260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516528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150560" y="-360"/>
            <a:ext cx="779292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810600" y="20174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438240" y="20174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1182600" y="45457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810600" y="45457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6438240" y="45457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1150560" y="-360"/>
            <a:ext cx="779292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118260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16528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1182600" y="454572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18260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1182600" y="454572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118260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516528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810600" y="20174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438240" y="20174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1182600" y="45457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810600" y="45457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438240" y="45457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7B1E2-B7D3-4CBD-96F5-31D0132907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16528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82600" y="454572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182600" y="454572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260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16528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10600" y="20174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38240" y="20174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182600" y="45457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810600" y="45457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38240" y="45457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73988-24DE-408C-85C0-0943D6BA4DF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D7C50-ED01-461A-95A1-A86B781FE10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B7E0E-9E06-4108-A4F2-47BAAEA2715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FADEF-B1F9-468F-98E5-4FF4451D13F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CE0B0-2042-44C4-8AC4-3642260A9C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B880C-32AB-48D0-95E9-2E398941F8E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150560" y="-360"/>
            <a:ext cx="779292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118CB-AC6B-48EA-8202-3A42500EDBD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8260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2B838-B75C-4537-8AC5-0F645A119E3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16528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D6949-5638-4DAA-A80F-6FD298C0CBA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182600" y="454572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547A0-24F6-462D-8FBB-4BFEC29D3E8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1182600" y="454572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FF1A7-6FF7-4ED3-B294-99F83416965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8260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16528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4DFA8-9D46-4186-A6DC-1A2F6BADEFE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10600" y="20174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438240" y="20174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1182600" y="45457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810600" y="45457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438240" y="45457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C3CCE-32BB-4A1D-B835-DF8ED9BD5D4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FB469-801A-404F-B6B7-4A35150B0A2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150560" y="-360"/>
            <a:ext cx="779292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8260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16528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182600" y="454572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182600" y="454572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18260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16528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810600" y="20174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438240" y="20174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1182600" y="45457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810600" y="45457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438240" y="45457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43D62-4790-4588-9988-64AFCD1C96B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1150560" y="-360"/>
            <a:ext cx="779292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18260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16528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182600" y="454572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1182600" y="454572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18260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16528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50560" y="-360"/>
            <a:ext cx="779292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4DB97-E30D-4518-A9FB-02E6DBBBF05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810600" y="20174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438240" y="20174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1182600" y="45457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810600" y="45457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438240" y="45457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150560" y="-360"/>
            <a:ext cx="779292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8260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16528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182600" y="454572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18260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C4191-7F66-4440-9815-83B223CFF1D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182600" y="454572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18260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16528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810600" y="20174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438240" y="20174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182600" y="45457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810600" y="45457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438240" y="45457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150560" y="-360"/>
            <a:ext cx="779292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18260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6528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7F71A-FCB5-469B-B509-7ADDFC74275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16528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182600" y="454572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1182600" y="454572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18260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516528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810600" y="20174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438240" y="20174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1182600" y="45457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810600" y="45457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438240" y="45457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54572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0EF7B-1061-4E8F-A4D7-B9AAC60FEFB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1150560" y="-360"/>
            <a:ext cx="779292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18260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16528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182600" y="454572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1182600" y="454572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165280" y="201744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18260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165280" y="45457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810600" y="20174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438240" y="201744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1182600" y="45457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810600" y="45457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438240" y="45457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84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904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4624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655040" y="6388200"/>
            <a:ext cx="3096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48B2A-AE73-4284-A114-E8CC2B374E7D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444240" y="3378240"/>
            <a:ext cx="4127400" cy="2324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title"/>
          </p:nvPr>
        </p:nvSpPr>
        <p:spPr>
          <a:xfrm>
            <a:off x="444240" y="990720"/>
            <a:ext cx="4127400" cy="2324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888480" y="1942920"/>
            <a:ext cx="354348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1000"/>
          </a:bodyPr>
          <a:p>
            <a:pPr marL="487080" indent="-31212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65000" indent="-31248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042560" indent="-31212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330560" indent="-31212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4" marL="1608480" indent="-31248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5" marL="1608480" indent="-31248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6" marL="1608480" indent="-31248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888840" y="1942920"/>
            <a:ext cx="73663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4000"/>
          </a:bodyPr>
          <a:p>
            <a:pPr marL="565200" indent="-36216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887760" indent="-36252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209960" indent="-36216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544400" indent="-36216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4" marL="1866600" indent="-36252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5" marL="1866600" indent="-36252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6" marL="1866600" indent="-36252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5460840" y="1942920"/>
            <a:ext cx="27943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69000"/>
          </a:bodyPr>
          <a:p>
            <a:pPr marL="414720" indent="-26568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51600" indent="-26604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888120" indent="-26568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133640" indent="-26568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4" marL="1370160" indent="-26604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5" marL="1370160" indent="-26604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6" marL="1370160" indent="-26604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888480" y="1942920"/>
            <a:ext cx="354348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1000"/>
          </a:bodyPr>
          <a:p>
            <a:pPr marL="487080" indent="-31212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65000" indent="-31248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042560" indent="-31212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330560" indent="-31212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4" marL="1608480" indent="-31248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5" marL="1608480" indent="-31248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6" marL="1608480" indent="-312480">
              <a:spcBef>
                <a:spcPts val="27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888840" y="888840"/>
            <a:ext cx="7366320" cy="508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1000"/>
          </a:bodyPr>
          <a:p>
            <a:pPr marL="600480" indent="-403920">
              <a:spcBef>
                <a:spcPts val="33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912960" indent="-404280">
              <a:spcBef>
                <a:spcPts val="33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224720" indent="-403920">
              <a:spcBef>
                <a:spcPts val="33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548360" indent="-403920">
              <a:spcBef>
                <a:spcPts val="33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860480" indent="-404280">
              <a:spcBef>
                <a:spcPts val="33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860480" indent="-404280">
              <a:spcBef>
                <a:spcPts val="33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860480" indent="-404280">
              <a:spcBef>
                <a:spcPts val="33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188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84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904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4624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Num" idx="2"/>
          </p:nvPr>
        </p:nvSpPr>
        <p:spPr>
          <a:xfrm>
            <a:off x="7839000" y="6383160"/>
            <a:ext cx="3096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FFC1F-E904-4F71-A5F0-C9A0AABE386F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88840" y="177840"/>
            <a:ext cx="7366320" cy="1714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888840" y="1942920"/>
            <a:ext cx="7366320" cy="402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4000"/>
          </a:bodyPr>
          <a:p>
            <a:pPr marL="620280" indent="-41724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9428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265040" indent="-41724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599480" indent="-41724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9220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9220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9220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88840" y="2095200"/>
            <a:ext cx="7366320" cy="2679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888840" y="3530160"/>
            <a:ext cx="7366320" cy="800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28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888840" y="1155600"/>
            <a:ext cx="7366320" cy="2324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88840" y="5181480"/>
            <a:ext cx="7366320" cy="1206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88840" y="5181480"/>
            <a:ext cx="7366320" cy="1206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444240" y="3378240"/>
            <a:ext cx="4127400" cy="2324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title"/>
          </p:nvPr>
        </p:nvSpPr>
        <p:spPr>
          <a:xfrm>
            <a:off x="444240" y="990720"/>
            <a:ext cx="4127400" cy="2324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veryschools.net/164310219153730280/lib/164310219153730280/Picture3.png&amp;imgrefurl=http://www.averyschools.net/164310219153730280/&amp;usg=__gp9aqqwAKaaPxcwGfCqg2_tZT-U=&amp;h=295&amp;w=700&amp;sz=7&amp;hl=en&amp;start=77&amp;um=1&amp;itbs=1&amp;tbnid=mn8z8d_PhnfxNM:&amp;tbnh=59&amp;tbnw=140&amp;prev=/images%253Fq%253Dcontinuum%252Bof%252Bspecial%252Beducation%252Bservices%2526ndsp%253D20%2526hl%253Den%2526safe%253Dactive%2526sa%253DN%2526start%253D60%2526um%253D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4" name=""/>
          <p:cNvGrpSpPr/>
          <p:nvPr/>
        </p:nvGrpSpPr>
        <p:grpSpPr>
          <a:xfrm>
            <a:off x="0" y="2438280"/>
            <a:ext cx="9008280" cy="1052640"/>
            <a:chOff x="0" y="2438280"/>
            <a:chExt cx="9008280" cy="1052640"/>
          </a:xfrm>
        </p:grpSpPr>
        <p:grpSp>
          <p:nvGrpSpPr>
            <p:cNvPr id="605" name=""/>
            <p:cNvGrpSpPr/>
            <p:nvPr/>
          </p:nvGrpSpPr>
          <p:grpSpPr>
            <a:xfrm>
              <a:off x="293760" y="2546280"/>
              <a:ext cx="712800" cy="474480"/>
              <a:chOff x="293760" y="2546280"/>
              <a:chExt cx="712800" cy="474480"/>
            </a:xfrm>
          </p:grpSpPr>
          <p:sp>
            <p:nvSpPr>
              <p:cNvPr id="606" name=""/>
              <p:cNvSpPr/>
              <p:nvPr/>
            </p:nvSpPr>
            <p:spPr>
              <a:xfrm>
                <a:off x="293760" y="2546280"/>
                <a:ext cx="43812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76440" y="2546280"/>
                <a:ext cx="3301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417600" y="2968560"/>
              <a:ext cx="739440" cy="474480"/>
              <a:chOff x="417600" y="2968560"/>
              <a:chExt cx="739440" cy="474480"/>
            </a:xfrm>
          </p:grpSpPr>
          <p:sp>
            <p:nvSpPr>
              <p:cNvPr id="609" name=""/>
              <p:cNvSpPr/>
              <p:nvPr/>
            </p:nvSpPr>
            <p:spPr>
              <a:xfrm>
                <a:off x="417600" y="2968560"/>
                <a:ext cx="42300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786240" y="2968560"/>
                <a:ext cx="37080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611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 rot="10800000">
              <a:off x="315000" y="326016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omic Sans MS Bold"/>
                <a:ea typeface="Comic Sans MS Bold"/>
              </a:rPr>
              <a:t>Managing Inclusive Environments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Comic Sans MS"/>
                <a:ea typeface="Comic Sans MS"/>
              </a:rPr>
              <a:t>Session 2:Understanding Inclus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61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5397480"/>
            <a:ext cx="2705400" cy="1141560"/>
          </a:xfrm>
          <a:prstGeom prst="rect">
            <a:avLst/>
          </a:prstGeom>
          <a:ln w="0">
            <a:noFill/>
          </a:ln>
        </p:spPr>
      </p:pic>
      <p:sp>
        <p:nvSpPr>
          <p:cNvPr id="616" name=""/>
          <p:cNvSpPr/>
          <p:nvPr/>
        </p:nvSpPr>
        <p:spPr>
          <a:xfrm>
            <a:off x="6393240" y="4876920"/>
            <a:ext cx="211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r. Whittney Smi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1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150920" y="-360"/>
            <a:ext cx="396864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DE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094200" cy="4840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ll children with disabilities are entitled to services under IDEA, only those who are "eligible" under the specified disability catego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"/>
          <p:cNvSpPr/>
          <p:nvPr/>
        </p:nvSpPr>
        <p:spPr>
          <a:xfrm>
            <a:off x="4038480" y="0"/>
            <a:ext cx="4813560" cy="68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878040" indent="-3812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Aut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78040" indent="-3812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Deaf-Blind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78040" indent="-3812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Deaf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78040" indent="-3812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Emotional Disturb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78040" indent="-3812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Hearing Impair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78040" indent="-38124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ahoma"/>
              </a:rPr>
              <a:t>Mental Retardation (Intellectual Disabili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78040" indent="-3812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Multiple Disab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78040" indent="-3812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Orthopedic Impair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78040" indent="-3812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Other Health Impair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78040" indent="-3812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Specific Learning Dis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78040" indent="-3812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Speech or Language Impair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78040" indent="-3812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Traumatic Brain Inju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78040" indent="-3812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Visual Impairment Including Blind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9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ection 504 of the Rehabilitation Ac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tion 504 is less discriminatory: it prot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ersons with a disability who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 Bold"/>
                <a:ea typeface="Tahoma Bold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ave a physical or mental impairment which substantially limits one or more major life activities; 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 Bold"/>
                <a:ea typeface="Tahoma Bold"/>
              </a:rPr>
              <a:t>2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a record of such an impairment; or 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82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 Bold"/>
                <a:ea typeface="Tahoma Bold"/>
              </a:rPr>
              <a:t>3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e regarded as having such an impairment.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s of Major Life Activi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ing for one's self, performing manual tasks, walking, seeing, hearing, speaking, breathing, learning, and working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ting, sleeping, standing, lifting, bending, reading, concentrating, thinking, and communicating. 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 bodily functions” that are major life activities, such as the functions of the immune system, normal cell growth, digestive, bowel, bladder, neurological, brain, respiratory, circulatory, endocrine, and reproductive func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0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163520" y="-360"/>
            <a:ext cx="779328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panded List (January 2009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 Bold"/>
                <a:ea typeface="Tahoma Bold"/>
              </a:rPr>
              <a:t>Read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 Bold"/>
                <a:ea typeface="Tahoma Bold"/>
              </a:rPr>
              <a:t>concentrat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tanding, lifting, bending, etc. This may include individuals with AD/HD, dyslexia, cancer, diabetes, </a:t>
            </a:r>
            <a:r>
              <a:rPr b="0" lang="en-US" sz="2400" spc="-1" strike="noStrike">
                <a:solidFill>
                  <a:srgbClr val="000000"/>
                </a:solidFill>
                <a:latin typeface="Tahoma Bold"/>
                <a:ea typeface="Tahoma Bold"/>
              </a:rPr>
              <a:t>severe allerg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chronic asthma, Tourette ’s syndrome, digestive disorders, cardiovascular disorders, depression, conduct disorder, oppositional defiant disorder, HIV/AIDS, behavior disorders and temporary disabilities (e.g., broken writing arm, broken leg, etc.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612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that are </a:t>
            </a:r>
            <a:r>
              <a:rPr b="0" lang="en-US" sz="2400" spc="-1" strike="noStrike">
                <a:solidFill>
                  <a:srgbClr val="000000"/>
                </a:solidFill>
                <a:latin typeface="Tahoma Bold"/>
                <a:ea typeface="Tahoma Bold"/>
              </a:rPr>
              <a:t>episodic or in remis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re also now covered if they create a substantial limitation in one or more major life activity while they are activ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7839000" y="6383160"/>
            <a:ext cx="3096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9AE76-01E1-406B-BA6D-E876B350988E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6FB3B-863B-4D2C-9A9D-773640DFB06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7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8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9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1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2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23" name=""/>
          <p:cNvGrpSpPr/>
          <p:nvPr/>
        </p:nvGrpSpPr>
        <p:grpSpPr>
          <a:xfrm>
            <a:off x="3014640" y="903240"/>
            <a:ext cx="5848560" cy="4065480"/>
            <a:chOff x="3014640" y="903240"/>
            <a:chExt cx="5848560" cy="4065480"/>
          </a:xfrm>
        </p:grpSpPr>
        <p:sp>
          <p:nvSpPr>
            <p:cNvPr id="724" name=""/>
            <p:cNvSpPr/>
            <p:nvPr/>
          </p:nvSpPr>
          <p:spPr>
            <a:xfrm>
              <a:off x="3014640" y="2041560"/>
              <a:ext cx="2894040" cy="2927160"/>
            </a:xfrm>
            <a:prstGeom prst="pie">
              <a:avLst/>
            </a:prstGeom>
            <a:solidFill>
              <a:srgbClr val="ff8c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25" name=""/>
            <p:cNvGrpSpPr/>
            <p:nvPr/>
          </p:nvGrpSpPr>
          <p:grpSpPr>
            <a:xfrm>
              <a:off x="5668920" y="2203560"/>
              <a:ext cx="3194280" cy="1299600"/>
              <a:chOff x="5668920" y="2203560"/>
              <a:chExt cx="3194280" cy="1299600"/>
            </a:xfrm>
          </p:grpSpPr>
          <p:sp>
            <p:nvSpPr>
              <p:cNvPr id="726" name=""/>
              <p:cNvSpPr/>
              <p:nvPr/>
            </p:nvSpPr>
            <p:spPr>
              <a:xfrm>
                <a:off x="5668920" y="2325600"/>
                <a:ext cx="1155600" cy="117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20432" y="0"/>
                    </a:lnTo>
                    <a:lnTo>
                      <a:pt x="2160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6911640" y="2203560"/>
                <a:ext cx="19515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ll Children</a:t>
                </a:r>
                <a:endParaRPr b="0" lang="en-US" sz="3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728" name=""/>
            <p:cNvSpPr/>
            <p:nvPr/>
          </p:nvSpPr>
          <p:spPr>
            <a:xfrm>
              <a:off x="3495600" y="2529000"/>
              <a:ext cx="1930320" cy="1950840"/>
            </a:xfrm>
            <a:prstGeom prst="pie">
              <a:avLst/>
            </a:prstGeom>
            <a:solidFill>
              <a:srgbClr val="01bd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29" name=""/>
            <p:cNvGrpSpPr/>
            <p:nvPr/>
          </p:nvGrpSpPr>
          <p:grpSpPr>
            <a:xfrm>
              <a:off x="5186520" y="1552680"/>
              <a:ext cx="2361960" cy="1950480"/>
              <a:chOff x="5186520" y="1552680"/>
              <a:chExt cx="2361960" cy="1950480"/>
            </a:xfrm>
          </p:grpSpPr>
          <p:sp>
            <p:nvSpPr>
              <p:cNvPr id="730" name=""/>
              <p:cNvSpPr/>
              <p:nvPr/>
            </p:nvSpPr>
            <p:spPr>
              <a:xfrm>
                <a:off x="5186520" y="1674720"/>
                <a:ext cx="1638360" cy="1828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20776" y="0"/>
                    </a:lnTo>
                    <a:lnTo>
                      <a:pt x="2160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6912360" y="1552680"/>
                <a:ext cx="6361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04</a:t>
                </a:r>
                <a:endParaRPr b="0" lang="en-US" sz="3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732" name=""/>
            <p:cNvSpPr/>
            <p:nvPr/>
          </p:nvSpPr>
          <p:spPr>
            <a:xfrm>
              <a:off x="3979800" y="3017880"/>
              <a:ext cx="965160" cy="974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33" name=""/>
            <p:cNvGrpSpPr/>
            <p:nvPr/>
          </p:nvGrpSpPr>
          <p:grpSpPr>
            <a:xfrm>
              <a:off x="4462560" y="903240"/>
              <a:ext cx="3340080" cy="2600280"/>
              <a:chOff x="4462560" y="903240"/>
              <a:chExt cx="3340080" cy="2600280"/>
            </a:xfrm>
          </p:grpSpPr>
          <p:sp>
            <p:nvSpPr>
              <p:cNvPr id="734" name=""/>
              <p:cNvSpPr/>
              <p:nvPr/>
            </p:nvSpPr>
            <p:spPr>
              <a:xfrm>
                <a:off x="4462560" y="1025640"/>
                <a:ext cx="2363040" cy="247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21600"/>
                    </a:moveTo>
                    <a:lnTo>
                      <a:pt x="21028" y="0"/>
                    </a:lnTo>
                    <a:lnTo>
                      <a:pt x="2160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6912000" y="903240"/>
                <a:ext cx="8906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DEA</a:t>
                </a:r>
                <a:endParaRPr b="0" lang="en-US" sz="3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7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8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9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0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1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43" name=""/>
          <p:cNvGrpSpPr/>
          <p:nvPr/>
        </p:nvGrpSpPr>
        <p:grpSpPr>
          <a:xfrm>
            <a:off x="989280" y="2430360"/>
            <a:ext cx="7773120" cy="1919160"/>
            <a:chOff x="989280" y="2430360"/>
            <a:chExt cx="7773120" cy="1919160"/>
          </a:xfrm>
        </p:grpSpPr>
        <p:sp>
          <p:nvSpPr>
            <p:cNvPr id="744" name=""/>
            <p:cNvSpPr/>
            <p:nvPr/>
          </p:nvSpPr>
          <p:spPr>
            <a:xfrm>
              <a:off x="4316400" y="2430360"/>
              <a:ext cx="2130480" cy="1919160"/>
            </a:xfrm>
            <a:prstGeom prst="ellipse">
              <a:avLst/>
            </a:prstGeom>
            <a:solidFill>
              <a:srgbClr val="1c1c1c">
                <a:alpha val="50000"/>
              </a:srgbClr>
            </a:solidFill>
            <a:ln w="5724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699600" y="3160800"/>
              <a:ext cx="2062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 Bold"/>
                  <a:ea typeface="Arial Bold"/>
                </a:rPr>
                <a:t>Section 504</a:t>
              </a:r>
              <a:endParaRPr b="0" lang="en-US" sz="3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692440" y="2430360"/>
              <a:ext cx="2130480" cy="191916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572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989280" y="3160800"/>
              <a:ext cx="864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 Bold"/>
                  <a:ea typeface="Arial Bold"/>
                </a:rPr>
                <a:t>IDEA</a:t>
              </a:r>
              <a:endParaRPr b="0" lang="en-US" sz="3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9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0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1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2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3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4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Tahoma"/>
              </a:rPr>
              <a:t>Including Samuel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stion for Reflection as you view the vide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826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Samuel’s teacher in an inclusive classroom, what concerns would you hav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8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9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0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1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2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3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pact of Inclusion on Students 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with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Disabili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cademic Performan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826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tandardized test scores, reading performance, mastery of IEP goals, grades, on-task behavior, motivation, and att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ocial Performance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826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on with typically developing peers --- some characterize their experience by fear, frustration, ridicule and isolation while others speak about friendships, intellectual challenges, self-esteem, and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7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8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9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0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1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2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pact of Inclusion on Others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act on Student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withou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isa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826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ademic ---- equal or better performance than those not educated in inclusion classroo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act 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Educa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826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itu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act 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826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itu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6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7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8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9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0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1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arning Pyrami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783" name="" descr=""/>
          <p:cNvPicPr/>
          <p:nvPr/>
        </p:nvPicPr>
        <p:blipFill>
          <a:blip r:embed="rId1"/>
          <a:srcRect l="0" t="10449" r="0" b="0"/>
          <a:stretch/>
        </p:blipFill>
        <p:spPr>
          <a:xfrm>
            <a:off x="1066680" y="1674720"/>
            <a:ext cx="7467840" cy="496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" descr=""/>
          <p:cNvPicPr/>
          <p:nvPr/>
        </p:nvPicPr>
        <p:blipFill>
          <a:blip r:embed="rId1"/>
          <a:stretch/>
        </p:blipFill>
        <p:spPr>
          <a:xfrm>
            <a:off x="0" y="-165240"/>
            <a:ext cx="9144000" cy="718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5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6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7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8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9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0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fle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649440" indent="-6098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your child had a disability, would you prefer a general education or special education setting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49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49440" indent="-60984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your child did not have a disability, which class would you pref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4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5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6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7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8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9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 next class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ond to the previous questions on the blog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ill be focusing on the </a:t>
            </a:r>
            <a:r>
              <a:rPr b="0" lang="en-US" sz="3200" spc="-1" strike="noStrike">
                <a:solidFill>
                  <a:srgbClr val="000000"/>
                </a:solidFill>
                <a:latin typeface="Tahoma Bold"/>
                <a:ea typeface="Tahoma Bold"/>
              </a:rPr>
              <a:t>IE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ext clas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"/>
          <p:cNvGrpSpPr/>
          <p:nvPr/>
        </p:nvGrpSpPr>
        <p:grpSpPr>
          <a:xfrm>
            <a:off x="0" y="2438280"/>
            <a:ext cx="9008280" cy="1052640"/>
            <a:chOff x="0" y="2438280"/>
            <a:chExt cx="9008280" cy="1052640"/>
          </a:xfrm>
        </p:grpSpPr>
        <p:grpSp>
          <p:nvGrpSpPr>
            <p:cNvPr id="619" name=""/>
            <p:cNvGrpSpPr/>
            <p:nvPr/>
          </p:nvGrpSpPr>
          <p:grpSpPr>
            <a:xfrm>
              <a:off x="293760" y="2546280"/>
              <a:ext cx="712800" cy="474480"/>
              <a:chOff x="293760" y="2546280"/>
              <a:chExt cx="712800" cy="474480"/>
            </a:xfrm>
          </p:grpSpPr>
          <p:sp>
            <p:nvSpPr>
              <p:cNvPr id="620" name=""/>
              <p:cNvSpPr/>
              <p:nvPr/>
            </p:nvSpPr>
            <p:spPr>
              <a:xfrm>
                <a:off x="293760" y="2546280"/>
                <a:ext cx="43812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76440" y="2546280"/>
                <a:ext cx="3301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417600" y="2968560"/>
              <a:ext cx="739440" cy="474480"/>
              <a:chOff x="417600" y="2968560"/>
              <a:chExt cx="739440" cy="474480"/>
            </a:xfrm>
          </p:grpSpPr>
          <p:sp>
            <p:nvSpPr>
              <p:cNvPr id="623" name=""/>
              <p:cNvSpPr/>
              <p:nvPr/>
            </p:nvSpPr>
            <p:spPr>
              <a:xfrm>
                <a:off x="417600" y="2968560"/>
                <a:ext cx="42300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786240" y="2968560"/>
                <a:ext cx="37080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62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 rot="10800000">
              <a:off x="315000" y="326016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wo Truths and a Lie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170000" y="220788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k of three statements about yourself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must be true statements, and one must be fals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person will share the three statements with the group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object is to determine the “li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7655040" y="6388200"/>
            <a:ext cx="3096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E61A8-C76E-45AB-A7B0-14F53F6F4B88}" type="slidenum">
              <a:rPr b="0" lang="en-US" sz="1400" spc="-1" strike="noStrike">
                <a:solidFill>
                  <a:srgbClr val="1c1c1c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4E98F-DD24-4D66-BF46-C0A2CF42C20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825480" y="558720"/>
            <a:ext cx="8051760" cy="61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marL="304920" indent="-3049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he Teacher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marL="304920" indent="-304920">
              <a:lnSpc>
                <a:spcPct val="9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oncerning a teacher’s influence, I have come to the frightening conclusion that I am the decisive element in the classroom.  It’s my personal approach that creates the climate.  It’s my daily mood that makes the weather.  As a teacher, I possess tremendous power to make a child’s life miserable or joyous.  I can be a tool of torture or an instrument of inspiration.  I can humiliate or humor, hurt or heal.  In all situations, it is my response that decides whether a crisis will be escalated or de-escalated, and a child humanized or dehumanized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4920" indent="-304920">
              <a:lnSpc>
                <a:spcPct val="9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04920" indent="-304920" algn="r">
              <a:lnSpc>
                <a:spcPct val="90000"/>
              </a:lnSpc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- Haim Ginot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P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Free Appropriate Public Education (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FAP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is what all children in the U.S. are entitled to under the Individuals with Disabilities Education Act (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DE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 does "appropriate" mea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's important to note that "appropriate" does not mean "best," nor does it mean "appropriate to the school district's plans for this year."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law requires that this FAPE take place in the Least Restrictive Environment (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L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Least Restrictive Environment (LR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some kids, this will mean full inclu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other kids, a self-contained classroom may in fact be less restrictive and more appropriate.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appropriate" --- interpretations must be individualized to the needs of the child, not the needs of the school or the needs of the distr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vement to I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institution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rly Intervention (EI) and Early Childhood Progra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chnological Adv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vil Rights Movement and Resulting Liti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ocacy 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regated Nature of Special Schools and Cla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proportionate Repres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ducational Re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Laws that Shape Special Educ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 94-142: Education for All Handicapped Children Act (197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82640" indent="-2858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 99-457: Education for All Handicapped Children Act Amendments (198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82640" indent="-2858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provision for the early years (E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 101-476(IDEA): Individuals with Disabilities Education Act (199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 Amendments of 199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826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"/>
          <p:cNvSpPr/>
          <p:nvPr/>
        </p:nvSpPr>
        <p:spPr>
          <a:xfrm>
            <a:off x="228600" y="4267080"/>
            <a:ext cx="8381880" cy="2362320"/>
          </a:xfrm>
          <a:prstGeom prst="rect">
            <a:avLst/>
          </a:prstGeom>
          <a:solidFill>
            <a:srgbClr val="00e4a8">
              <a:alpha val="3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3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DE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573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 is organized i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fou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art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31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A, General Prov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31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B, Assistance for the Education of All Children with Disabilities (school age/preschool program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31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C, Infants and Toddlers with Disab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3120" indent="-533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D, National Activities to Improve the Education of Children with Disabilities (support program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/>
  <cp:revision>0</cp:revision>
  <dc:subject/>
  <dc:title>Slide 1</dc:title>
</cp:coreProperties>
</file>